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56B4-58A0-45F8-A480-839FF981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912E-0906-4196-AA30-E9C0BD30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B664-30F9-42EF-A95B-494F54A4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4E8C-7451-4C97-BFB2-E12397AF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CB31-AB3B-44EC-ADD3-17A70A76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432-292B-4660-867D-983D86EA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59F9-D9D8-4D32-8083-CF516CDB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0ECD-C93A-4922-B35D-6F969556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3CF7-35E2-42C9-8B57-6670847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792B-0452-40B9-B9B8-8A86ADE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94F2-C3E3-46C6-90B0-472732F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1FC0-1C15-4F4D-82B2-62517EDE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9E5A-EA7B-40AA-BCA9-838BF0ED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56BA-C023-4F75-B6E6-7E1CE59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DD62-3A4F-44F0-98E0-5874ECD9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B8C9-A91B-41CC-9C16-655E8ACA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1841-1A19-4767-9BB3-23DAAADF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0558-11B4-4C5E-AF39-DBE03866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9042-B75C-4254-8894-F6805F9C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49F1-66B4-419F-9BA9-A391F36F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7233-59F6-4171-B978-146F90A9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7D7C-895D-4416-BB34-251A5D2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99AF-E916-4510-B5CF-04895FF2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A953-5FF9-492E-8304-77B0E6B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8A7-52C5-42D1-B24D-540AB3A1B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C98C-197E-48E7-BEA5-0CCFF90CE0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pennsylvania.s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76520" y="1143000"/>
            <a:ext cx="63244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ennsylva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533412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erence McReyno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0/25/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puter#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" y="56386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ennsylvania song: 50states, 10/26,Pennsylvania, http://www.50states.com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ital City: Harrisbur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pulation: 12,281,05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tered Union: December 12, 178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ck Name: Keystone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to: Virtue, liberty, and independ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: Mountain Laur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ing of name: named after admiral William Penn and the Latin word for wood “sylvania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d: Ruffed Gro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ne: Trilobite is found in Pennsylva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ng: Pennsylvan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133720"/>
            <a:ext cx="406728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198108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4400" y="5410080"/>
            <a:ext cx="6629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Pennsylvani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10/25/11, http://www.enchantedlearning.com/usa/states/pennsylvani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143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the state flag of Pennsylv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1523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map of Pennsylv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All images Copyright © 1997 - 2000 WriteLine. All Rights Reserved. Harrisburg PA Capitol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396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9480" y="5791320"/>
            <a:ext cx="4953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ost card from America, Pennsylvania, 10/25/11, http://www.postcardsfrom.com/t1/99112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914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grand stair case of the Pennsylvania state capital 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esting 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nnsylvania is a commonw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apital city of Harrisburg filed Bankrupt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tates largest cities are: Philadelphia, Pittsburg, and E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3:00:42Z</dcterms:created>
  <dc:creator>install</dc:creator>
  <dc:description/>
  <dc:language>en-US</dc:language>
  <cp:lastModifiedBy>install</cp:lastModifiedBy>
  <dcterms:modified xsi:type="dcterms:W3CDTF">2011-10-27T13:38:25Z</dcterms:modified>
  <cp:revision>8</cp:revision>
  <dc:subject/>
  <dc:title>Slide 1</dc:title>
</cp:coreProperties>
</file>